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073-3DB0-4913-AC81-A634A4F2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27C-7505-4224-91EB-E1034011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AB0E-8381-4D45-BDFF-4B8A621A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7A31-A1F2-4C08-B0DC-2627AF32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E5AB-85A3-4C96-97B4-3D8410FF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115E-8716-4B33-8013-0D4D871B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8B8D-6642-4DE6-BC27-BCB0F335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D575-740D-4189-94CF-857D24AA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1F8A-D204-4F57-9A94-C8831A4B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E1CD-55A0-42A0-8D5B-DC334AB4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CDF0-9244-4129-A795-A0DBC25A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784-0958-412D-87ED-B2677A30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CA31-DE82-48B4-940A-B5B761C6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72C4-8174-4183-A5DB-BE0A6030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194D-19B9-4B62-94E3-756078E7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4B1C-39C6-4AF6-BDDD-5B9C0398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8444-5EE6-45B6-9D96-DA65A7CD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B64-070E-4C4B-BC7C-2BCECF97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D5E-883D-42B2-8E2B-BB79A64D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384-40C9-4D8C-B631-053AD1F1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CBFD-0804-4572-8D04-59AB0FC2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2833-4E38-4B60-A593-515C1564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842-D861-4BC9-8060-69E0D419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C24-28C0-48BC-9744-2181CE98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E9BF-86DA-4316-BEF1-AF0D374ED85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CCD4-5A99-40F5-9BE8-18167831404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scs-exchange.gscs.org/exchange/emily.johnson/Inbox/Health Syllabus, Health Goals, Com_xF8FF_Non Com LP, Drugs_xF8FF_tobacco LP, LP Template.EML/Unit 8 Diseases.doc/C58EA28C-18C0-4a97-9AF2-036E93DDAFB3/Unit 8 Diseases.doc?attach=1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Ds and HIV/AI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apter 12: Lesson 5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Bell Activi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AI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What words and phrases come to mind when you see this word?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Health Goal # 3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I will choose behaviors to reduce my risk of infection with Sexually Transmitted Diseas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IV/AIDS 10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HIV/AIDS 101 Vide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rough Stages of the Disease ON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plete Video Workshee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8:02:14Z</dcterms:created>
  <dc:creator>Hope Whiting</dc:creator>
  <dc:description/>
  <dc:language>en-US</dc:language>
  <cp:lastModifiedBy>Hope Whiting</cp:lastModifiedBy>
  <dcterms:modified xsi:type="dcterms:W3CDTF">2011-06-21T18:24:02Z</dcterms:modified>
  <cp:revision>2</cp:revision>
  <dc:subject/>
  <dc:title>STDs and HIV/AIDS</dc:title>
</cp:coreProperties>
</file>